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7F7-DA5A-418F-9445-D01D881D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4BC-7D0A-4296-BFFE-943F5CBD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CD3-AE89-4D30-BC35-92E198EF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484-62A3-4DE2-AAC9-0D3BF2B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CBD2-6E74-4A19-B200-35943B69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5BD5-D920-4EEE-A932-9E93F7F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585-95CB-44B2-A518-726AEA5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3B8B-E29D-4BA3-BB69-D7EAC4A6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808-8EEB-4BC8-A279-E351F8D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B73A-64C3-4D13-A2FD-DBCE9AF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811-B354-498C-9DE9-AF28409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5B9-61F3-417D-A9EE-FA810B00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EDE2-F132-4077-9B0D-C5FFCF9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7F7-943D-430F-9352-5EFEF38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968-EA8F-4071-B602-90E21C8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783A-C9AB-4564-BC73-1C08AAA6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3633-6C72-46F6-BB3E-051536A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EC7F-76EE-4D2F-849B-BA7A0FD2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7E06-4DD4-4A16-9CCD-5EC10D4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EC1E-BC23-45C4-A5FF-1D0B440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A9EC-49DA-4EF0-8C5E-55A188C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67F2-3CF7-42E8-B872-8006636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ADB-6E38-4E47-A08A-3408301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BEB1-8C37-4EAC-A7A1-17CE425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CBEB-9C8E-45DD-A75E-27A2373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545F-57FF-4E1C-9339-E0D2727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CB31-91ED-4A17-85CB-BC4861F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D5FA-7CCF-4827-A677-AA4F1F8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8593-AB8B-4F0E-B4DB-3FFB9335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3BF8-3036-46CD-8AA0-CD542169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41B0-5541-4008-9856-FE87F16A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2982-6E93-47BD-8E1B-C4B1B61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8B2E-7B9E-4E22-BF1A-93C4D158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DDC-CBA1-4B01-BE03-8A632F22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9B56-C696-42F3-972C-F1AEA33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13C5-FF55-472E-B600-F3DA313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9C8F7-3527-4F28-BB5A-ED38CA2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506F-AE60-4E7E-8F5B-AEF4B8B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4C78-4602-4C25-91FB-5258F56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41F9-E178-40E4-8D54-9EC6886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E920-84B6-4603-9A0F-2A78955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A755-DAAD-41ED-8FCF-5325FBE4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C359-7350-4A05-A01F-1CBEDB05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04E-0F69-44A3-B6CF-2F5A184B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7C3-9C0F-43CB-A777-D9C852D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A90-CF1F-4495-8282-6B2D1A3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B83-17C2-415C-9767-C14B781A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3E8-6788-4029-83E9-23BE28F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CBB6-8F1C-44BA-8152-5BFCE7DA74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59A-7443-4C24-81A7-E39E44B42A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494F-BE84-47A6-892F-F7A6E8FC32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516-FE1E-49F1-B47C-A619642355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96680" y="3429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642960" y="120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886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3659040" y="531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5478480" y="46562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80880" y="2620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232416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4419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6400800" y="120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361800" y="46562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3537000" y="558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2324160" y="26384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6934320" y="5318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Fact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act Family is a set of related fac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ath this means 3 numbers that are related in some w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other numbers can be included in the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ink About Fact Families as a real famil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ddy – Biggest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mmy – Middle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by – Smallest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954680" y="5006880"/>
            <a:ext cx="1554120" cy="160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Owner\AppData\Local\Microsoft\Windows\Temporary Internet Files\Content.IE5\6AO2PPGB\MC900445992[2].wmf"/>
          <p:cNvPicPr/>
          <p:nvPr/>
        </p:nvPicPr>
        <p:blipFill>
          <a:blip r:embed="rId2"/>
          <a:stretch/>
        </p:blipFill>
        <p:spPr>
          <a:xfrm>
            <a:off x="5680080" y="1903320"/>
            <a:ext cx="1393920" cy="143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Owner\AppData\Local\Microsoft\Windows\Temporary Internet Files\Content.IE5\6AO2PPGB\MC900347411[2].wmf"/>
          <p:cNvPicPr/>
          <p:nvPr/>
        </p:nvPicPr>
        <p:blipFill>
          <a:blip r:embed="rId3"/>
          <a:stretch/>
        </p:blipFill>
        <p:spPr>
          <a:xfrm>
            <a:off x="7315200" y="3036960"/>
            <a:ext cx="116352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s look at some example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 9, 1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, 2, 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, 7, 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 you relate the number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each family you can produce 4 math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add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+ ____ = ____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+ ____ = 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- ____ = ____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- ____ = 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:  5, 3,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anyone make me 2 addition sentences with these number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+ 5 = 8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used the same two numbers as the addends, we just used what is called turning around the fac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:  5, 3,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anyone make me 2 subtraction sentences with these number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ow put it all together and you have your fact family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pSp>
        <p:nvGrpSpPr>
          <p:cNvPr id="226" name="Rectangle 3"/>
          <p:cNvGrpSpPr/>
          <p:nvPr/>
        </p:nvGrpSpPr>
        <p:grpSpPr>
          <a:xfrm>
            <a:off x="2828880" y="2822400"/>
            <a:ext cx="3651120" cy="3303720"/>
            <a:chOff x="2828880" y="2822400"/>
            <a:chExt cx="3651120" cy="3303720"/>
          </a:xfrm>
        </p:grpSpPr>
        <p:pic>
          <p:nvPicPr>
            <p:cNvPr id="227" name="Rectangle 3" descr=""/>
            <p:cNvPicPr/>
            <p:nvPr/>
          </p:nvPicPr>
          <p:blipFill>
            <a:blip r:embed="rId2"/>
            <a:stretch/>
          </p:blipFill>
          <p:spPr>
            <a:xfrm>
              <a:off x="2828880" y="2822400"/>
              <a:ext cx="365112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98720" y="2971800"/>
              <a:ext cx="35053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3 + 5 = 8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5 + 3 = 8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 – 5 = 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 – 3 = 5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9" name="Isosceles Triangle 4"/>
          <p:cNvGrpSpPr/>
          <p:nvPr/>
        </p:nvGrpSpPr>
        <p:grpSpPr>
          <a:xfrm>
            <a:off x="2859120" y="1573200"/>
            <a:ext cx="3578040" cy="1504800"/>
            <a:chOff x="2859120" y="1573200"/>
            <a:chExt cx="3578040" cy="1504800"/>
          </a:xfrm>
        </p:grpSpPr>
        <p:pic>
          <p:nvPicPr>
            <p:cNvPr id="230" name="Isosceles Triangle 4" descr=""/>
            <p:cNvPicPr/>
            <p:nvPr/>
          </p:nvPicPr>
          <p:blipFill>
            <a:blip r:embed="rId3"/>
            <a:stretch/>
          </p:blipFill>
          <p:spPr>
            <a:xfrm>
              <a:off x="2859120" y="1573200"/>
              <a:ext cx="357804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790800" y="2289240"/>
              <a:ext cx="17146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nstantia"/>
                </a:rPr>
                <a:t>5, 3, 8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21:12:30Z</dcterms:created>
  <dc:creator>Owner</dc:creator>
  <dc:description/>
  <dc:language>en-US</dc:language>
  <cp:lastModifiedBy>JonathanBYGODPhillip</cp:lastModifiedBy>
  <dcterms:modified xsi:type="dcterms:W3CDTF">2010-12-06T10:40:32Z</dcterms:modified>
  <cp:revision>16</cp:revision>
  <dc:subject/>
  <dc:title>Fact Families</dc:title>
</cp:coreProperties>
</file>